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44413"/>
        <c:axId val="15866778"/>
      </c:barChart>
      <c:catAx>
        <c:axId val="50344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66778"/>
        <c:crosses val="autoZero"/>
        <c:auto val="1"/>
        <c:lblAlgn val="ctr"/>
        <c:lblOffset val="100"/>
        <c:noMultiLvlLbl val="0"/>
      </c:catAx>
      <c:valAx>
        <c:axId val="15866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4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6E1-6FC9-4DE0-8F62-B8C089A9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7C3-990C-494E-A11A-C7FD068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455-3029-4B12-A130-66C5FBDE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CA7-C2A5-43F1-A803-234E2327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6C7-0366-4110-BFD5-FEB72DE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E88-6CE1-4EAA-95F3-D9EF350C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227-9C5D-47B9-AA79-A630D459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A25-4332-4B77-B5F8-6C82F547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74E-38C1-4072-9642-FD3426F1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264-0704-4A92-A692-1D0DAF0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2F0-98AE-4053-A28F-5191303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C6B-83A4-44D0-A6F3-24FC0BA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94325-66EB-4173-B21C-782352F00A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