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4704"/>
        <c:axId val="29756069"/>
      </c:barChart>
      <c:catAx>
        <c:axId val="4047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56069"/>
        <c:crosses val="autoZero"/>
        <c:auto val="1"/>
        <c:lblAlgn val="ctr"/>
        <c:lblOffset val="100"/>
        <c:noMultiLvlLbl val="0"/>
      </c:catAx>
      <c:valAx>
        <c:axId val="29756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7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77C-69C9-401B-9A5C-AAA82842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2E2D-4A80-48C2-A2A4-41973DB0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DBA-10A2-4C6F-9792-466C0706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704C-5F38-487F-97DE-5D3499BA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79BC-1E63-4774-8E1F-442ABB4B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1D5A-6C25-4B18-A836-C3A28D7E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A3E3-BD36-44F6-8891-FA6B5BCC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7335-B86D-4EFB-934E-36E6A262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C851-A42D-4F8D-A267-00C0FB9C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52F5-6F78-4D73-B7A3-8B1621A3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841C-AE7D-4C48-99DE-CED8223D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7338-DB97-45B0-906B-00DBFAFE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AE88B-AB5B-4597-B6BD-F788C71C57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