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75737"/>
        <c:axId val="39208651"/>
      </c:barChart>
      <c:catAx>
        <c:axId val="57175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08651"/>
        <c:crosses val="autoZero"/>
        <c:auto val="1"/>
        <c:lblAlgn val="ctr"/>
        <c:lblOffset val="100"/>
        <c:noMultiLvlLbl val="0"/>
      </c:catAx>
      <c:valAx>
        <c:axId val="39208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75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9DB-C737-4D92-8F49-9544AE3A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4EA-1B30-49CD-AEAA-2705EC9F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B154-45E4-4864-9679-6208AA67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AE6-B1B5-4C18-AFDF-28A618BC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D39-CD17-40A2-9761-AF129310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BFF-0EA4-4EAE-A99A-54F77660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FC0-8345-434F-9684-86E3615C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376-075E-4BA0-B094-235BE8B1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2FD-6B31-4296-B583-8DEAAF6F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5B7-B97D-49FC-B818-3D33DD52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C81-901A-41CC-B7BF-1519D1E8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790-CAEF-431C-827B-224BCE0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2C505-E0D2-4881-8C23-4086BC92A1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