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1261"/>
        <c:axId val="67654429"/>
      </c:barChart>
      <c:catAx>
        <c:axId val="9001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54429"/>
        <c:crosses val="autoZero"/>
        <c:auto val="1"/>
        <c:lblAlgn val="ctr"/>
        <c:lblOffset val="100"/>
        <c:noMultiLvlLbl val="0"/>
      </c:catAx>
      <c:valAx>
        <c:axId val="67654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1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EF7-ECAD-4E57-85E6-97D0689C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5DE-F5B7-42FD-A237-92CBACBE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A6A-23EF-48D4-9E3C-AEEFDA8B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125-174F-4157-9F53-C73134E6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335-AB9D-476B-8F92-F509A836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045-A65C-4C5E-A53F-FADB9F02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519-3D78-41BE-ADFD-BD15C7DF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90A-C0E6-4A89-9EEA-DC2D7BDC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BC1-8A60-46F1-A45B-D4DFA114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9C5-730C-4312-9996-810AD18A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ED3-BF4A-4716-AD8E-312DEA5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459-B47F-4FBE-9873-F6B142D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812D3-17E2-4A27-9A72-160C3F7891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