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53908"/>
        <c:axId val="62367115"/>
      </c:barChart>
      <c:catAx>
        <c:axId val="31353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67115"/>
        <c:crosses val="autoZero"/>
        <c:auto val="1"/>
        <c:lblAlgn val="ctr"/>
        <c:lblOffset val="100"/>
        <c:noMultiLvlLbl val="0"/>
      </c:catAx>
      <c:valAx>
        <c:axId val="62367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53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8DA-F597-40B0-B8D2-E819BDDF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B36-8D98-4F3C-A68F-BBDAE16D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57B-B14F-408C-92CA-D8C2D827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299-2A3D-4175-844A-F676BEDC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831-6CFB-461D-828E-E176F298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E61-472E-4904-AA08-B76FF59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0B1-422A-4D03-AAD7-ADB9C81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A73-1AA9-49E2-8047-B1519EFB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55B-4CE5-48BD-A34E-94A9FFA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48F-5389-44EA-B070-DD5E66A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030-3177-4245-858C-EF4D422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26A-7AB6-4763-AB2A-DBCFE31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A4F41-39D1-4ED9-9249-E05403C04C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