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47854"/>
        <c:axId val="72774840"/>
      </c:barChart>
      <c:catAx>
        <c:axId val="60647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4840"/>
        <c:crosses val="autoZero"/>
        <c:auto val="1"/>
        <c:lblAlgn val="ctr"/>
        <c:lblOffset val="100"/>
        <c:noMultiLvlLbl val="0"/>
      </c:catAx>
      <c:valAx>
        <c:axId val="72774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47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556-880D-485A-8AB4-ECF9C19E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71F-0F4D-4940-901F-2396E260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534-191E-4F39-BC60-10AAD16D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DB2-62A8-41C7-886D-AC5B9253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A3D-D5D4-4068-BCFE-7CFF3F8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ABF3-A4B7-434B-AEE1-67EF569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905F-68C8-4AE8-89A3-BE3004B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86F-97E9-4F40-9712-FEC08362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8E6D-3D56-4F4B-99BA-EC7453A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72F-A418-48E1-A7DC-CD604413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7D4-BA7F-4CDB-96A3-85C6187D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ACB-C711-421F-A788-510923D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6AC3C-66BE-47AA-8E62-E959F1708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