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44622"/>
        <c:axId val="47664504"/>
      </c:barChart>
      <c:catAx>
        <c:axId val="27244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64504"/>
        <c:crosses val="autoZero"/>
        <c:auto val="1"/>
        <c:lblAlgn val="ctr"/>
        <c:lblOffset val="100"/>
        <c:noMultiLvlLbl val="0"/>
      </c:catAx>
      <c:valAx>
        <c:axId val="47664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44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765-8D88-4435-837B-9A015466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FA7-0C40-43F3-BEFF-13B6EAB6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0CB-97D5-48DF-AE98-AB99FF26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5D1-675B-48DC-98C4-575BFBF3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A7A-3262-481D-A29C-66919220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145-017D-48BD-975F-47FF6008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FB7-132C-4BAD-A687-6CE0C4BF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D21-F912-4FA3-B0C3-16FE233C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069-4B37-404A-ABD1-6770B3F3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35B-0190-4848-A9A4-B7E069A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821-0800-438F-86A1-72FD4A1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304-8A5B-4CF2-9B22-6B0AF39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4335B-0756-4690-BA69-72FE2FCA7E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