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47363"/>
        <c:axId val="7275196"/>
      </c:barChart>
      <c:catAx>
        <c:axId val="18247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5196"/>
        <c:crosses val="autoZero"/>
        <c:auto val="1"/>
        <c:lblAlgn val="ctr"/>
        <c:lblOffset val="100"/>
        <c:noMultiLvlLbl val="0"/>
      </c:catAx>
      <c:valAx>
        <c:axId val="7275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47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C10-EAC4-4DCB-B474-127C060D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83F-2401-4878-8F28-433BEBBF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40C-E6DB-4E9E-AAB3-3A05DFA1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ADD-D2C4-48E3-A4CA-2677BA25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D00-6DBF-4323-A297-2D3FA8A6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715-1AAB-4EBC-A6FC-6189687E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421-34C4-440D-A464-6E8D20CB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0F1-B6E0-4363-91C8-1AAB7250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53C-AD44-4B37-B121-DE2AC909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795-7012-4B4A-A918-4B0E1C5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217-0C88-4344-ACB0-7965DEA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3BB-4F4D-4BA5-B051-BBFDCC7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49F04-2018-4178-9963-8448C6A266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