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896721"/>
        <c:axId val="46735259"/>
      </c:barChart>
      <c:catAx>
        <c:axId val="868967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35259"/>
        <c:crosses val="autoZero"/>
        <c:auto val="1"/>
        <c:lblAlgn val="ctr"/>
        <c:lblOffset val="100"/>
        <c:noMultiLvlLbl val="0"/>
      </c:catAx>
      <c:valAx>
        <c:axId val="467352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967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6FB4-644D-4517-870A-CBF03A339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58B4-0C20-4F97-AC69-E1E46171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520D-7655-4A40-A5DB-D9912580F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B5B9-8984-44F8-B99A-5BC992118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3D38-B067-4933-AB59-71897DEA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8830-6CDB-4F31-B43A-8272A27C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29B7-6078-46E3-A52E-838ACC59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B5AE-5A0E-48BA-A5A5-0D3BE1E8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4C9C-76C2-439F-BB93-AF11FE07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2136-3294-4598-B01A-AFBF6D1C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6B1F-3928-45F9-ACE2-464C5E02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60E5-93C7-4883-8437-00137EE8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7307A-3121-4189-8158-E9E946E175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