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07887"/>
        <c:axId val="89770249"/>
      </c:barChart>
      <c:catAx>
        <c:axId val="21307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70249"/>
        <c:crosses val="autoZero"/>
        <c:auto val="1"/>
        <c:lblAlgn val="ctr"/>
        <c:lblOffset val="100"/>
        <c:noMultiLvlLbl val="0"/>
      </c:catAx>
      <c:valAx>
        <c:axId val="89770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07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402-6207-43E3-8203-79F7C00F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3E2-13FA-49AB-BF30-B44FE784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D130-F33B-4EAE-815A-7B163807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1591-FB50-4EEF-AD4A-8A5F0154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1ED-A165-433B-8664-99116068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BEF4-5FE3-4E65-B971-0A5F5599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A4B-3FD2-493F-A1F1-DC4F7A2B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CA0-E6D5-4379-ABFE-CA822B7D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6EA7-FC50-4780-B28F-1B9B9B79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AF6-83C2-4947-8FBB-0BAC8AC6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CA7-C417-40A4-B314-383039B8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3A9-3362-44EC-8A2F-2B5F72D3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C94F2-A4A1-42CE-934B-04C20278FE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