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82086"/>
        <c:axId val="47905486"/>
      </c:barChart>
      <c:catAx>
        <c:axId val="91582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05486"/>
        <c:crosses val="autoZero"/>
        <c:auto val="1"/>
        <c:lblAlgn val="ctr"/>
        <c:lblOffset val="100"/>
        <c:noMultiLvlLbl val="0"/>
      </c:catAx>
      <c:valAx>
        <c:axId val="47905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2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5B8-954B-4B99-AD15-FF0DCA8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0F5-CD24-4062-9114-E6CFA04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D75-3014-446B-B920-F8D996B4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7DB-AA99-4EB5-9C4F-D0A92749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A2F-4066-4E61-B479-A8DE087C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1A0-F14A-4568-B4CA-A97B5B2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80D-4388-4A21-A7EC-8B2B0986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909-63D5-4E1E-B0A9-1B0F4F7A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B1D-16E7-487A-803E-C3FB5584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16A-51C9-4776-B6AF-B6745DE2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3FF-FC9F-4C51-AC0C-F6A1B6A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D4D-8EF5-4A06-8088-5883BF9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6671C-369D-40FD-BDB8-311888B80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