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34922"/>
        <c:axId val="48242549"/>
      </c:barChart>
      <c:catAx>
        <c:axId val="62134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42549"/>
        <c:crosses val="autoZero"/>
        <c:auto val="1"/>
        <c:lblAlgn val="ctr"/>
        <c:lblOffset val="100"/>
        <c:noMultiLvlLbl val="0"/>
      </c:catAx>
      <c:valAx>
        <c:axId val="482425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34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BC76-F8DA-4FD2-BEA9-3518B15F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3F15-BC80-43ED-8644-B67E041C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88C3-9C7B-4366-A019-E80AF8C4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5D0-6419-459A-8BB8-6230768F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E7ED-4DF3-4684-8F08-43C5ED5E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828B-132D-4D64-82AD-4BC55B37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3DB-CBC6-40DB-80E3-0482B7A8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B6E3-7945-4E07-97F7-05A4F7A8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983-9443-426A-B814-CEFFCDEC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8EFB-1615-49B5-A9F6-C3B1568B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58A-F48A-4808-B2DC-D4693230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9E2A-B9BD-4366-B488-CDA5AC93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97BFA-B0CC-40A1-A31D-DCF8CD3AEF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