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28853"/>
        <c:axId val="72500675"/>
      </c:barChart>
      <c:catAx>
        <c:axId val="47328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00675"/>
        <c:crosses val="autoZero"/>
        <c:auto val="1"/>
        <c:lblAlgn val="ctr"/>
        <c:lblOffset val="100"/>
        <c:noMultiLvlLbl val="0"/>
      </c:catAx>
      <c:valAx>
        <c:axId val="72500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28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C9D-A9BB-427D-8C9F-88BDD86A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92E-DF50-4421-BF75-8F8BC1E4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EC5-52BF-4FEC-B95C-45147165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522-06BA-4D95-908C-B15856CB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586-6FE1-44DB-BBF9-240B27AD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BC3-C464-4BD5-BFF1-F965A3AB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9C3-9555-46AF-8E26-D9E9E848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878-3659-4DC7-854A-893D7665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DFB-4FC4-473A-8C9D-45527CEE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CE5-8510-4099-B06F-7F4F00F8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B54-5671-4E93-857C-CA970AC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9E7-2771-4EC7-BEEF-4C51F2F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44E95-8121-40B7-AA8C-A4ECE75D57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