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084839"/>
        <c:axId val="46093934"/>
      </c:barChart>
      <c:catAx>
        <c:axId val="420848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93934"/>
        <c:crosses val="autoZero"/>
        <c:auto val="1"/>
        <c:lblAlgn val="ctr"/>
        <c:lblOffset val="100"/>
        <c:noMultiLvlLbl val="0"/>
      </c:catAx>
      <c:valAx>
        <c:axId val="460939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848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FE6B-3BAA-44B2-AE07-95130A69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A62C-3109-4C64-BC33-B49067CE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11B5-3CD1-4C48-8B66-C755D4F41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ED8F-B84D-408A-BF19-935F07885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2D7B-E3EB-416B-A626-A2DFD105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D54B-5C99-44E3-A4CA-0FF04528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C830-41C6-4580-AF07-7B30B524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9FC6-0843-4E3D-81E9-DB9D9F18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5681-491A-430C-AAC6-ABD9DE4D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EA3D-70AA-4EEB-9829-257DD579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B308-5FC0-432E-B2E7-772563EC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534A-3A7C-4420-99CC-5ADD1BD9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46BCC-CBDC-4C50-8A35-619B6B4B8C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