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4858"/>
        <c:axId val="98855950"/>
      </c:barChart>
      <c:catAx>
        <c:axId val="4514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55950"/>
        <c:crosses val="autoZero"/>
        <c:auto val="1"/>
        <c:lblAlgn val="ctr"/>
        <c:lblOffset val="100"/>
        <c:noMultiLvlLbl val="0"/>
      </c:catAx>
      <c:valAx>
        <c:axId val="98855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4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D04-6BC5-4D73-9890-9177DA8A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DA2-F488-45F3-ABED-2A542533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3CF-6232-4BF3-BB8F-4500B705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CA0-7A52-445D-884F-48B359AD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FB7-EBB9-4C38-9686-8053E0F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5F7-26CF-4154-BF79-045D6579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5CA-9BE7-497F-A59B-E0ACC5A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A63-C1EB-45E5-8862-684442C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544-89A0-4A81-9E65-F571A2E5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D79-9476-4DF7-8042-CE3DB662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AAB-8674-4908-8280-1EFB44AA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357-C4BC-4CCD-B73A-0AAFA06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31B01-7895-4F00-8128-EF600F8D9E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