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892405"/>
        <c:axId val="86996261"/>
      </c:barChart>
      <c:catAx>
        <c:axId val="858924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96261"/>
        <c:crosses val="autoZero"/>
        <c:auto val="1"/>
        <c:lblAlgn val="ctr"/>
        <c:lblOffset val="100"/>
        <c:noMultiLvlLbl val="0"/>
      </c:catAx>
      <c:valAx>
        <c:axId val="869962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8924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8078-8291-4A57-B82F-7E09C2BF5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0BC9-59C4-4AF1-BDE7-FF80016B1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DEEA6-1A95-4719-AAD3-CE22F8452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781E-238C-4F4B-BFD6-DD5D5CF0C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30A5-9B7A-40E1-A489-432D3A73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9247-9E50-41FA-901D-979E34A28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D629-6758-4501-8181-C2416D65B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85CA-FF7B-4A9D-9ED1-382405F3A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B44C6-FDF3-4418-A208-7B7F8C1BF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4957-6A3F-41A3-856F-D9F69E077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31CE-9DBB-4604-ACCA-3D9C1E4F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D547-2A17-4AE5-86FE-BD5957B45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61D292-1DB4-4BF1-9EEF-CBB1A0D2E9D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