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29612"/>
        <c:axId val="59915223"/>
      </c:barChart>
      <c:catAx>
        <c:axId val="196296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15223"/>
        <c:crosses val="autoZero"/>
        <c:auto val="1"/>
        <c:lblAlgn val="ctr"/>
        <c:lblOffset val="100"/>
        <c:noMultiLvlLbl val="0"/>
      </c:catAx>
      <c:valAx>
        <c:axId val="599152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296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097-6FFB-46D3-8878-6BAF3CA0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564-821D-44CD-A9B0-8C7B0328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5AD-BAA1-4F88-9531-1EE33961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1A1-2399-4977-861F-0F63AA1A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4F7-0710-4FA8-8AAA-3017A48C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398-F6DA-421C-B9FA-F347BBD0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210-0BCA-456E-B9B7-AE1AC2E8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518-DA24-4E71-B387-F503CF6A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0BF-DB17-42DD-B754-8C0D3E4A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47D-F453-4040-B988-4A674B1D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1EC-E066-4449-AB71-51DAA5E9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E58-A407-4B09-9C47-87A72A4D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4C3A5-AF7B-471A-B55F-96E934905F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