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78462"/>
        <c:axId val="30987215"/>
      </c:barChart>
      <c:catAx>
        <c:axId val="72678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87215"/>
        <c:crosses val="autoZero"/>
        <c:auto val="1"/>
        <c:lblAlgn val="ctr"/>
        <c:lblOffset val="100"/>
        <c:noMultiLvlLbl val="0"/>
      </c:catAx>
      <c:valAx>
        <c:axId val="309872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78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D1C-B766-4497-B95C-150B6FCE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BF2-2E76-4FE2-B1B1-61772D1A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CF89-82BE-454D-AD6D-DD741768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92B-5324-470F-898A-38289C46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B12-F5B3-4089-BAC3-D5F44727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3E1-703A-4FF5-9B8F-1E12BC87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6DC-C44A-4971-827B-826701CC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486-EA3B-40FA-A825-CC3B515B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0F38-7BEF-44F0-98BE-024A341C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689-4F1A-4788-BC16-34A16630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70FF-6676-4EF1-8807-D933EC75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F015-8413-478D-8F22-A89E854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82810C-1088-4220-8562-BBA490C817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