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004197"/>
        <c:axId val="30467333"/>
      </c:barChart>
      <c:catAx>
        <c:axId val="330041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67333"/>
        <c:crosses val="autoZero"/>
        <c:auto val="1"/>
        <c:lblAlgn val="ctr"/>
        <c:lblOffset val="100"/>
        <c:noMultiLvlLbl val="0"/>
      </c:catAx>
      <c:valAx>
        <c:axId val="304673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041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133B-39C6-4210-9B46-E6677F193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DFD9-4B1B-465E-A0DD-F5A836B0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408D-8F67-43E8-BC8C-619B5CEC1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00A3-E865-463E-ACED-B4B70DC53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4B8A-D055-414F-A172-A3709356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E9F2-889E-4824-BD35-CE9A5586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0A3D-7AC7-4766-BFC0-47FA7112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2F5A-D974-4A30-B4D4-4CB679D5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EB8E-9A75-478E-A6D0-4B11E718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DEF6-38C6-4E02-B289-353EDB7B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C5D5-FC1C-4330-A225-956BB630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A2E7-B1B6-43C8-A16C-91715ABA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AE9D3-12A6-45BA-8FDC-40A1152052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