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142822"/>
        <c:axId val="10259720"/>
      </c:barChart>
      <c:catAx>
        <c:axId val="981428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259720"/>
        <c:crosses val="autoZero"/>
        <c:auto val="1"/>
        <c:lblAlgn val="ctr"/>
        <c:lblOffset val="100"/>
        <c:noMultiLvlLbl val="0"/>
      </c:catAx>
      <c:valAx>
        <c:axId val="102597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1428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B817-AC49-4EB8-B023-6140C3559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BF44-C67C-4F00-BD1A-C5901586F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4FA4-8D41-46B9-BB6A-B98EDB552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A2AA-6328-4A31-B895-05E43AB92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4017-2777-48FA-9A63-76DD4F89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F89D-CA4F-4AB8-890E-93381C45A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3773-F2D4-4981-BB4C-1E7E2AAC5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6C8A-8A24-45E8-9630-EB5A6BE1C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B221-A73F-4996-9EC3-DDA1A7B91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10B2-BA74-4803-AD02-3DB471A2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622D-3FD6-4344-A9F9-89923EC8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365A-45FF-489E-9EEA-F7A5C718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92C146-A3F5-4555-841E-AE98C78AF29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