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54695"/>
        <c:axId val="23859614"/>
      </c:barChart>
      <c:catAx>
        <c:axId val="30554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9614"/>
        <c:crosses val="autoZero"/>
        <c:auto val="1"/>
        <c:lblAlgn val="ctr"/>
        <c:lblOffset val="100"/>
        <c:noMultiLvlLbl val="0"/>
      </c:catAx>
      <c:valAx>
        <c:axId val="23859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54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13C-3DCD-41D8-9209-C711ED0F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0D2-81AA-4CC5-A185-7729D94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D68-DC36-47E5-B5C0-60E7C9BE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3C3-15A9-464F-87E2-CDEA1BC2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822-D4CB-481F-9AF0-CE0F3A1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D93-8B4F-4B88-A997-A40DB8A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823-38BE-4D83-A8BA-F5921B5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308-552B-4144-9616-44E74B39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C0D-D104-4BB1-A844-E25A632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465-3861-41F7-A4B0-F7254F7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DF5-86C2-4A0E-BE5D-A3D0216E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A1E-5C86-4C16-AA41-4344BD1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FAB11-E241-462E-B9F6-CD4337F757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