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80813"/>
        <c:axId val="52530026"/>
      </c:barChart>
      <c:catAx>
        <c:axId val="349808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30026"/>
        <c:crosses val="autoZero"/>
        <c:auto val="1"/>
        <c:lblAlgn val="ctr"/>
        <c:lblOffset val="100"/>
        <c:noMultiLvlLbl val="0"/>
      </c:catAx>
      <c:valAx>
        <c:axId val="5253002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808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814B-7A1D-4885-9251-9B3217F81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A85-3684-4BA5-97A3-CA546784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EFEE-B2F9-4000-9C2B-5AFB580B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1632-C2D6-42C7-A950-4A15B2DD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A86D-F258-47E5-B173-E3D8CF29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B505-4729-4C9F-A35F-8894B27A3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B016-2454-45C4-90A3-0B3A44772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008D-336E-4C66-9A45-A3B540749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E8EC-734D-4EA4-BE3D-99EE7CBF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C196-FE44-4973-AF9F-01205E1A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4458-DE9C-4BF7-9D41-7876DC4D4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9D3E-278A-4171-9A71-FC200BD1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85FD05-BF57-4AA4-BE58-D28E6BC008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